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2B1-B2B5-47BA-A0BD-53E4D587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84D-07A6-4205-9EF4-45B0BBE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7D4-D92C-4801-8803-A60F56CD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9CE-7AA1-489E-8807-74809B7E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C81D-59E3-493B-9B85-5BE2EC0D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CB8D-4F61-4E01-A6FB-30B54A68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6D3B-472F-4AB4-8BB8-AA30856E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BB0D-DD3F-4D80-B41C-CFDEB54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F828-13B4-4556-8826-19FA07DC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83D4-DAD6-4453-AFD5-7AD1585F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AFB4-B258-4A24-8C52-E44F2257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8F5-BF8B-42DF-8B38-A6A1B4E3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87BB-0F03-4A37-9906-9212D307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BA26-416D-4D0D-AD9F-59AD11BC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3565-44BD-4819-A74F-7C3E6795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9225-4922-4FF0-959A-2A124204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4C1C-DEB1-4D6D-8C50-B60DA5BC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AF0FE-F592-403A-A809-AA568150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21E82-3DF8-4003-A635-4103E03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44FD2-6301-4157-866A-30702793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A66A1-D219-4187-BFCF-28927C89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2B020-E76F-4B2C-A685-5B345FAC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993-C5F7-4541-A014-C420CEBB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DE948-4D02-4F62-9134-4A839CCF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CC497-465B-4476-9B82-0E56CE8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8B49B-6620-4796-B23A-549292E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55FC4-3DB2-41F8-94FB-E6749FA9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B23AD-993A-42CD-A981-5A30AF52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47FEB-17F7-4BD0-8D06-5463AA60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1BB53-A3F2-45D7-A58F-CEEF1FDC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64E2-B0AE-4155-9960-5142D36E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7409-F67F-401C-AD22-3072E354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5BA5-ADA3-435B-83BB-6B5A738E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6D5-212F-4813-A1B0-9CA1079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1646-0CC2-4D28-A848-D93DDF1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5A2E-B77D-497C-A1E4-EFDBF30B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24BB-2E47-404D-9B6E-7C8F99E4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3CD9-D3E2-4EA2-81DF-08CE6BF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773D-A779-4986-A63A-BE30F1D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AEA7-376F-4413-B2F3-7A966E6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0C33-6349-47D2-BFFC-B2948B58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13C52-394A-4BAF-BF4E-0B7AFD23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B313D-48FC-43CE-8B07-380A0ADA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AE9-0150-469B-BE4F-83A35820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F7A-7E24-4F31-930E-1958BF83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5ED-4A2B-4803-99DC-C883D0F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4AC-148C-40B0-80A1-90C74A01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2A9-470A-4BEE-997D-380268B1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bf1"/>
            </a:gs>
            <a:gs pos="100000">
              <a:srgbClr val="749a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76AC-69FC-40E0-A228-72C5CFC755A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bf1"/>
            </a:gs>
            <a:gs pos="100000">
              <a:srgbClr val="749a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6f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E0E-C801-4A06-85EE-8E1CFA88F4F8}" type="slidenum">
              <a:rPr b="0" lang="en-US" sz="1200" spc="-1" strike="noStrike">
                <a:solidFill>
                  <a:srgbClr val="0f6f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bf1"/>
            </a:gs>
            <a:gs pos="100000">
              <a:srgbClr val="749a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A9A2-B07F-44FE-A19D-1ECB50604E2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bf1"/>
            </a:gs>
            <a:gs pos="100000">
              <a:srgbClr val="749a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21b2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230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AE01-18E4-433C-B187-570EB1BE9F8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6fc6"/>
                </a:solidFill>
                <a:latin typeface="Century Gothic"/>
              </a:rPr>
              <a:t>Diverticulitis</a:t>
            </a:r>
            <a:endParaRPr b="0" lang="en-US" sz="36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Leigh A. Patterson MD</a:t>
            </a:r>
            <a:endParaRPr b="0" lang="en-US" sz="1800" spc="-1" strike="noStrike">
              <a:solidFill>
                <a:srgbClr val="04617b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ECU Emergency Medicine</a:t>
            </a:r>
            <a:endParaRPr b="0" lang="en-US" sz="18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Complicated Disease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Microperforation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Abscess confined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Abscess seeding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Peritoniti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Purlent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Feculent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Acute Surgical Management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Microperforation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IV antibiotics, observation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Abscess, confined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IV Antibiotics, observation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Percutaneous drainage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Delayed colonoscopy after discharge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Acute Surgical Management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Distal Absces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IV antibiotics, observation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Percutaneous drainage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Delayed elective resection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Peritonitis, obstruction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Emergent laparotomy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Chronic Management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5668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Acute uncomplicated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Colonoscopy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22200" indent="-25668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Recurrent Diverticuliti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Resection can be considered after two episodes but may elect preventive antibiotic therapy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22200" indent="-25668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Immunocompromised 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01200" indent="-25632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Should have early resection to prevent recurrence due to higher risk of complications.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533520" y="512640"/>
            <a:ext cx="8153280" cy="56311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6"/>
          <p:cNvSpPr/>
          <p:nvPr/>
        </p:nvSpPr>
        <p:spPr>
          <a:xfrm>
            <a:off x="1295280" y="614376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zious, JG. Diverticulitis and Acute Diverticulosis. Gastroenterol Clin NA, 38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Disposition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Outpatient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Limited disease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Nontoxic, tolerating PO, pain managed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Limited comorbiditie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Inpatient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Systemically ill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Perforation, absces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Immunocompromised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References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Byrnes, MC. Antimicrobial Therapy for Acute Colonic Diverticulitis. Surg Infect (Larchmt) 2009: 10(2) 143-54.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Comparato, G. J Recurrent Diverticulitis. Clin Gastroeneterol 2008 42(10): 1130-34.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Touzious, JG. Diverticulitis and Acute Diverticulosis. Gastroenterol Clin NA, 38(2009) 512-525.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Incidence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Developed Nation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25% Incidence Overall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Age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30% age &gt;50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50% age &gt;70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60% age &gt;85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Immunocompromised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HIV, transplants, chemotherapy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Etiology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Reduction in dietary fiber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entury Gothic"/>
              </a:rPr>
              <a:t>Decreased stool volume increased colon pressure</a:t>
            </a:r>
            <a:endParaRPr b="0" lang="en-US" sz="20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entury Gothic"/>
              </a:rPr>
              <a:t>Diverticulae form</a:t>
            </a:r>
            <a:endParaRPr b="0" lang="en-US" sz="20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Age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NSAID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Bacteria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4617b"/>
                </a:solidFill>
                <a:latin typeface="Century Gothic"/>
              </a:rPr>
              <a:t>Bacteroides fragilis</a:t>
            </a:r>
            <a:endParaRPr b="0" lang="en-US" sz="20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entury Gothic"/>
              </a:rPr>
              <a:t>Peptostreptococcus, Clostridium, Fusobacterium</a:t>
            </a:r>
            <a:endParaRPr b="0" lang="en-US" sz="20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Classification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Acute Uncomplicated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Single episode without perforation, systemic toxicity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Recurrent episode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Complicated or uncomplicated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Complicated Diverticuliti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Perforation, abscess, peritoniti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moldering Chronic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Incomplete resolution between episode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History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Predisposing history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constipation OR diarrhea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Prior episodes of pain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Immunocompromised - HIV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Current episode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Change in bowel habit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Abrupt onset constant, crampy pain to LLQ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Nausea and vomiting or anorexia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Fever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Exam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Vital sign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fever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Abdominal exam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Focal LLQ tendernes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Rectal 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Hemoccult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Evidence of perirectal abses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Management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Treat Fever, pain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Initiate antibiotic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Image new or complicated cases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Goal – define location, extent and complication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urgical Consultation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Antibiotics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Monotherapy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Ampicillin/sulbactam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Ticarcillin/clavulanate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Ertapenem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Combination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Fluoroquinolone + metronidazole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Duration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5-7 days for uncomplicated mild-moderate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entury Gothic"/>
              </a:rPr>
              <a:t>Imaging</a:t>
            </a:r>
            <a:endParaRPr b="0" lang="en-US" sz="4000" spc="-1" strike="noStrike">
              <a:solidFill>
                <a:srgbClr val="0f6fc6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entury Gothic"/>
              </a:rPr>
              <a:t>CT Abdomen</a:t>
            </a: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  - preferred first line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IV/PO Contrast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Extent of disease, perforation and abscess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entury Gothic"/>
              </a:rPr>
              <a:t>Allows for therapeutic intervention</a:t>
            </a:r>
            <a:endParaRPr b="0" lang="en-US" sz="22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Barium Enema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Sigmoidoscope contraindicated acutely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0f6fc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entury Gothic"/>
              </a:rPr>
              <a:t>US </a:t>
            </a:r>
            <a:endParaRPr b="0" lang="en-US" sz="2400" spc="-1" strike="noStrike">
              <a:solidFill>
                <a:srgbClr val="04617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1:37:15Z</dcterms:created>
  <dc:creator>Leigh Patterson</dc:creator>
  <dc:description/>
  <dc:language>en-US</dc:language>
  <cp:lastModifiedBy>Sharon</cp:lastModifiedBy>
  <dcterms:modified xsi:type="dcterms:W3CDTF">2011-03-05T00:52:29Z</dcterms:modified>
  <cp:revision>11</cp:revision>
  <dc:subject/>
  <dc:title>Diverticulitis</dc:title>
</cp:coreProperties>
</file>