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4E57-5E6D-471D-BA5B-AD39467F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FC2B-170C-45C3-8872-B7608FA837A5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E748-61B9-404C-90D4-AE2CE6F6C488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1858-3453-4B78-B0E2-20E77FFF78FD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C9A4-769C-4D64-A9B5-BD4C1F13BFA3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2FAD-E53B-464B-A2DB-F0C7968274B0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6DE7-09B4-4785-9D26-D3C54AC50099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E9C6-D25C-425D-A785-519FDF913CEB}" type="slidenum">
              <a:rPr b="0" lang="en-US" sz="1200" spc="-1" strike="noStrike">
                <a:solidFill>
                  <a:srgbClr val="ffda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LUEBA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YELLOWBA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723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DRAGON"/>
          <p:cNvPicPr/>
          <p:nvPr/>
        </p:nvPicPr>
        <p:blipFill>
          <a:blip r:embed="rId4"/>
          <a:stretch/>
        </p:blipFill>
        <p:spPr>
          <a:xfrm>
            <a:off x="1828800" y="1905120"/>
            <a:ext cx="577836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Emergency Medicine, Drexel University College of Medicine</a:t>
            </a: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ecgpedia.org/wiki/Main_Pag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ffd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2455"/>
                </a:solidFill>
                <a:latin typeface="Palatino"/>
              </a:rPr>
              <a:t>Drexel University College of Medicine Department of Emergency Medicine</a:t>
            </a:r>
            <a:endParaRPr b="0" lang="en-US" sz="14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rugada Syndro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46479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a38"/>
                </a:solidFill>
                <a:latin typeface="Arial"/>
              </a:rPr>
              <a:t>Yonathan Habtemariam, MD</a:t>
            </a:r>
            <a:endParaRPr b="0" lang="en-US" sz="2800" spc="-1" strike="noStrike">
              <a:solidFill>
                <a:srgbClr val="ffda3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a38"/>
                </a:solidFill>
                <a:latin typeface="Arial"/>
              </a:rPr>
              <a:t>Edward A Ramoska, MD, MPH</a:t>
            </a:r>
            <a:endParaRPr b="0" lang="en-US" sz="2800" spc="-1" strike="noStrike">
              <a:solidFill>
                <a:srgbClr val="ffda3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a3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28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Brugada Syndrome is an uncommon disorder characterized by sudden death or syncope &amp; associated with a particular ECG pattern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Typical patient is young (30-50 years), male &amp; healthy with a normal PE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Prevalence is higher in Asian populations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Due to a channelopathy of cardiac sodium channels which leads to alterations in sodium current during cardiac action potential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38"/>
                </a:solidFill>
                <a:latin typeface="Arial"/>
              </a:rPr>
              <a:t>A result of mutation of </a:t>
            </a:r>
            <a:r>
              <a:rPr b="0" i="1" lang="en-US" sz="2400" spc="-1" strike="noStrike">
                <a:solidFill>
                  <a:srgbClr val="ffda38"/>
                </a:solidFill>
                <a:latin typeface="Arial"/>
              </a:rPr>
              <a:t>SCN5A</a:t>
            </a:r>
            <a:r>
              <a:rPr b="0" lang="en-US" sz="2400" spc="-1" strike="noStrike">
                <a:solidFill>
                  <a:srgbClr val="ffda38"/>
                </a:solidFill>
                <a:latin typeface="Arial"/>
              </a:rPr>
              <a:t> gene.</a:t>
            </a:r>
            <a:endParaRPr b="0" lang="en-US" sz="24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Dysrhythmia: Polymorphic ventricular tachycardia degenerating into ventricular fibrillation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38"/>
                </a:solidFill>
                <a:latin typeface="Arial"/>
              </a:rPr>
              <a:t>Atrial fibrillation in up to 20%.</a:t>
            </a:r>
            <a:endParaRPr b="0" lang="en-US" sz="24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ypes of ST-T Changes in V1–V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523880"/>
          <a:ext cx="4572000" cy="3673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Type 1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Type 2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Type 3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J Point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da38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 2 mm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da38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 2 mm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da38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 2 mm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ST-T config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Coved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Saddle back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Saddle back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ST segment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Descend ing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Elevated </a:t>
                      </a:r>
                      <a:r>
                        <a:rPr b="0" lang="en-US" sz="1800" spc="-1" strike="noStrike" u="sng">
                          <a:solidFill>
                            <a:srgbClr val="ffda38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 1 mm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Elevated &lt; 1 mm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T wave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Positive or biphasic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Content Placeholder 8" descr="Typre of ST elevation in Brugada.png"/>
          <p:cNvPicPr/>
          <p:nvPr/>
        </p:nvPicPr>
        <p:blipFill>
          <a:blip r:embed="rId1"/>
          <a:srcRect l="0" t="-4474" r="0" b="-4474"/>
          <a:stretch/>
        </p:blipFill>
        <p:spPr>
          <a:xfrm>
            <a:off x="4952880" y="152388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4724280" y="6019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a38"/>
                </a:solidFill>
                <a:latin typeface="Arial"/>
              </a:rPr>
              <a:t>Type 1 pattern is diagnostic of Brugada</a:t>
            </a: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49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ecgpedia.org/wiki/Main_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All ECG are posted and can be used in accordance with  the Creative Commons License. Retrieved 7/31/11</a:t>
            </a: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38"/>
                </a:solidFill>
                <a:latin typeface="Arial"/>
              </a:rPr>
              <a:t>In many cases cardiac arrest occurs during sleep or rest.</a:t>
            </a:r>
            <a:endParaRPr b="0" lang="en-US" sz="24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38"/>
                </a:solidFill>
                <a:latin typeface="Arial"/>
              </a:rPr>
              <a:t>Fever  is often reported to exacerbate clinical manifestations</a:t>
            </a:r>
            <a:endParaRPr b="0" lang="en-US" sz="24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38"/>
                </a:solidFill>
                <a:latin typeface="Arial"/>
              </a:rPr>
              <a:t>Other items which exacerbate or unmask ECG patterns include:</a:t>
            </a:r>
            <a:endParaRPr b="0" lang="en-US" sz="24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a38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1600" y="3809880"/>
          <a:ext cx="6172200" cy="2524320"/>
        </p:xfrm>
        <a:graphic>
          <a:graphicData uri="http://schemas.openxmlformats.org/drawingml/2006/table">
            <a:tbl>
              <a:tblPr/>
              <a:tblGrid>
                <a:gridCol w="2778120"/>
                <a:gridCol w="339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Hyperkalemia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Medications: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Hypokalemia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Sodium channel blockers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Hypercalcemia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Vagotonic agents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Alcohol intoxication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Alpha-adrenergic agonists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Cocaine intoxication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Beta-adrenergic blockers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da38"/>
                          </a:solidFill>
                          <a:latin typeface="Arial"/>
                        </a:rPr>
                        <a:t>Heterocyclic antidepressants </a:t>
                      </a:r>
                      <a:endParaRPr b="0" lang="en-US" sz="1800" spc="-1" strike="noStrike">
                        <a:solidFill>
                          <a:srgbClr val="ffda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a38"/>
                      </a:solidFill>
                    </a:lnL>
                    <a:lnR w="5760">
                      <a:solidFill>
                        <a:srgbClr val="ffda38"/>
                      </a:solidFill>
                    </a:lnR>
                    <a:lnT w="5760">
                      <a:solidFill>
                        <a:srgbClr val="ffda38"/>
                      </a:solidFill>
                    </a:lnT>
                    <a:lnB w="5760">
                      <a:solidFill>
                        <a:srgbClr val="ffda3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490760"/>
            <a:ext cx="72388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a38"/>
                </a:solidFill>
                <a:latin typeface="Arial"/>
              </a:rPr>
              <a:t>Indications for ICD Impla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Placeholder 5" descr="Brugada AICD indications.png"/>
          <p:cNvPicPr/>
          <p:nvPr/>
        </p:nvPicPr>
        <p:blipFill>
          <a:blip r:embed="rId1"/>
          <a:srcRect l="-8064" t="0" r="-8064" b="0"/>
          <a:stretch/>
        </p:blipFill>
        <p:spPr>
          <a:xfrm>
            <a:off x="1752480" y="2057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4266720"/>
            <a:ext cx="1828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a38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da38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ffda38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a38"/>
                </a:solidFill>
                <a:latin typeface="Arial"/>
              </a:rPr>
              <a:t>SCD = Sudden Cardiac Death</a:t>
            </a:r>
            <a:endParaRPr b="0" lang="en-US" sz="1400" spc="-1" strike="noStrike">
              <a:solidFill>
                <a:srgbClr val="ffda38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a38"/>
                </a:solidFill>
                <a:latin typeface="Arial"/>
              </a:rPr>
              <a:t>EPS = Electrophysiologic Study</a:t>
            </a:r>
            <a:endParaRPr b="0" lang="en-US" sz="1400" spc="-1" strike="noStrike">
              <a:solidFill>
                <a:srgbClr val="ffda38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204360" y="60948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da38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1724040" y="6172200"/>
            <a:ext cx="57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a38"/>
                </a:solidFill>
                <a:latin typeface="Arial"/>
              </a:rPr>
              <a:t>Second Consensus Conference on Brugada syndrome</a:t>
            </a:r>
            <a:endParaRPr b="0" lang="en-US" sz="18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Always get an ECG in patients with syncope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a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38"/>
                </a:solidFill>
                <a:latin typeface="Arial"/>
              </a:rPr>
              <a:t>If ECG has RBBB pattern with ST elevation – Think Brugada Syndrome.</a:t>
            </a:r>
            <a:endParaRPr b="0" lang="en-US" sz="3200" spc="-1" strike="noStrike">
              <a:solidFill>
                <a:srgbClr val="ffda3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6:37:04Z</dcterms:created>
  <dc:creator>Michael I Greenberg</dc:creator>
  <dc:description/>
  <dc:language>en-US</dc:language>
  <cp:lastModifiedBy>Sharon</cp:lastModifiedBy>
  <dcterms:modified xsi:type="dcterms:W3CDTF">2011-09-26T14:08:42Z</dcterms:modified>
  <cp:revision>246</cp:revision>
  <dc:subject/>
  <dc:title>Simulation-Based Training:  Filling the Void of Procedural Experience for Medical Students</dc:title>
</cp:coreProperties>
</file>